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3854-489A-4715-A4C9-D20FBE6EA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0F8E-21E9-4D43-A5C3-33D8B432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A947-DB84-493F-B5CC-C25372FB6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E225-2117-4D3E-9AC5-5A83175A9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11A7-531B-4433-8294-89CBE505F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F185-052E-4BBF-94B4-8F90531C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F55E-F875-4FC8-AE2C-60F876E6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E374-1D87-4445-B029-0C926F0A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DF56-F03C-4AC1-B338-248433EB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A120-D2E2-4FF9-8139-F8E6CD57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C387-B58C-4EB0-906E-8A15A95B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2B03-46D0-41AF-9CFB-724CDBE6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5BE1-DC70-4E33-8C36-D796414D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02FA-4EEC-49C5-B78E-7877C6F1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C2D8-7CC5-4090-89FC-655E66D2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6A7A-7221-458B-A1FA-19BA20DFA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F542-A8F1-4F6D-BE50-A8F659631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7525-6339-4680-B4D2-17E65774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91F0-F498-4FFF-B58B-11422775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8DAA-5D65-4AAD-B0D1-1D95CE6F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2414-5485-443E-B0C7-5E52ECD7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4B39-3A31-4724-BCC9-93AED177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8CB6-9D41-489B-9532-8525F5C8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9689-E70F-4BE6-BA23-F00B4A5B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ABAD-5CAB-448B-B8D3-FD08AD0BC4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60A4-7890-4B3D-833C-2BBB8880EB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image" Target="../media/image5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Рехабилитација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ДЦО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oc. dr sci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Лукови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Класификација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ДЦО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према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тежини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Лак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блик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и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требан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ретман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ет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рећ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без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магал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пособн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вакоднев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живот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говор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уреда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редњ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ешк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требан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ретман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орист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магал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м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метњ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говор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ешк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блик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амозбрињавањ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ретањ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говор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мај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лош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огноз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оживотн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ретма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Клиничка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слика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ДЦО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ремећај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оторик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рж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глав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забацу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ешк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гут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ешк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г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вит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Еп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апад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ремећеј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ид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лух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ремећај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гово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енталн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етардациј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Емоционалн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метњ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пшт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ензорн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лабос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Евалуација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детета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са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ДЦО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Захтев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имск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ад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ећег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број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тручњак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еуролог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физијатр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едијатр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ртопед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ефектолога (логопед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оматопеда..)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ерапеут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отетичар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ет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АЂ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Ц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ећ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оторним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ремећајем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ој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може</a:t>
            </a:r>
            <a:r>
              <a:rPr b="0" lang="sr-Latn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,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а</a:t>
            </a:r>
            <a:r>
              <a:rPr b="0" lang="sr-Latn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не</a:t>
            </a:r>
            <a:r>
              <a:rPr b="0" lang="sr-Latn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мор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стат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Ц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Преглед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детета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са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ДЦО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спитивањ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ложајних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еакциј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пис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понтаног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нашањ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ете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спитивањ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ажних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имитивних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ефлек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Постуралне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реакције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детет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едстављај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брз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адекватан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дговор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омен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ложај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дговор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ам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говор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оторној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тарост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ете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значај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ок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ет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оход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Ц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аљ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ремећај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стур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м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ортиколис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колиоз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луксациј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ук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..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и</a:t>
            </a:r>
            <a:r>
              <a:rPr b="0" lang="sr-Latn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30%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здраве</a:t>
            </a:r>
            <a:r>
              <a:rPr b="0" lang="sr-Latn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дец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Постуралне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реакције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ракцион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об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Ланда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еакциј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Аксиларн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исећ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еакциј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Бочн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латећ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ој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Хоризонталн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исећ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Colins-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во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ертикалн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исећ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Colins-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во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ертикалн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исећ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Peiper Isbet-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Дијагностика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ДЦО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Анамнез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изик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беб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еглед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: “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централн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ремећај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оординаци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без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ремећај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онус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”(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3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ам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атит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4-5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лак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6-7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редњ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вих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7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ежак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акон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в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(..3 )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?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годин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Ц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Спонтано понашање детет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имик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крет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идн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лушн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активност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флексион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ериод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6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едељ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ефлексн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локомоциј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екстензион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ериод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7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едељ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4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ес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в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весн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онтакт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колино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I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флексион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ериод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4.-9.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ес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ипрем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узањ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I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екстензион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ериод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9-12.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е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Спонтано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понашање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детет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зитивн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казатељ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оторик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езан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дређен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об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стојањ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ан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ог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ериод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зостајањ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ад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реб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сто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атолош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рст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ашњењ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хармоничн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исхармоничн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Испитивање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примитивних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рефлекс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ефлекс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хватањ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ук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ог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Galantov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ефлекс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пружањ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упрапубичн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укрштен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ефлекс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орен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шак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етн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аутоматск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ход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рофацијалн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(Bapkin,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ефлекс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исањ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ruting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птичк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акустичк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фацијални рефлекс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928440"/>
            <a:ext cx="777240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изико беб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иљоказ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исхармонични разво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Хипотониј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Ц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Физикално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лечење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Bobath,Phelbs, Gillete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bath, Vojta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вак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аведених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етод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м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во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правдањ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з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аведених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етод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реб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узет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н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шт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ћ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етет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моћ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јер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вак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ет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лучај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еб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уштин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блокират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атолошк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тимулисат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жељен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крет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Vojtina meto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дојч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ефлексн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бић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ефлексн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ретањ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чин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ефлексн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узањ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ефлексн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кретањ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раж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дређен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ачк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шем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б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оби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активан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кр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ад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3-4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ут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невн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едостатак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еизводљив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сл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1.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год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живо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Bobath meto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нхибициј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абнормалних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ефлекс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ИП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рш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ложај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руп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зглобов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упротном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атолошког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АСИВН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Фасилитациј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ормалних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еакциј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усправљањ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авнотеж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АКТИВН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птерећујућ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етод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ет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бар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8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ес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тар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Медикаментна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терапија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ДЦО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имптоматск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антиепилептиц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сихостабилизатор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аузалн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ерапиј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стој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леков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ој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бољшавај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еуротрансмитерск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ејств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ЦНС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ог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оприне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Boto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Хирушко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лечење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ДЦО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алијативн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углавном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пастичар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ад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еуротоми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елонгаци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етив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оштан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нтервенци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Циљев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успостављањ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функци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шт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лични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физиолошкој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орфологи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естетик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ориговањ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ржањ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пречавањ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мањењ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еформите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Леђни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положај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3962520" cy="2057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838080" y="4419720"/>
            <a:ext cx="3175200" cy="17319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7"/>
          <p:cNvSpPr/>
          <p:nvPr/>
        </p:nvSpPr>
        <p:spPr>
          <a:xfrm>
            <a:off x="4500720" y="1214280"/>
            <a:ext cx="42433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олико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ничн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флекс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ат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итивн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ишен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ну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кстензорим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к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бачен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наза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мен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тракциј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чмен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уб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хиперекстензиј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г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укциј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н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тациј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пал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нтарној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лексиј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РИП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положај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–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леђни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положај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3810240" cy="2362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4724280" y="2971800"/>
            <a:ext cx="38102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Положај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детета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на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трбух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3809880" cy="15242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Dutch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У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пронираном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положају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повећав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се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мишићни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тонус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у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флексорим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.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Глав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детет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лежи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н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подлози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кичмени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стуб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је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флектиран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рамен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су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повучен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к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напред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флектиране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руке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се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налазе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испод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грудног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коша.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Натколенице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потколенице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су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такође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флектиране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П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дењу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939960" y="1641600"/>
            <a:ext cx="3300120" cy="44542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Код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позитивних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симетричних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и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асиметричних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рефлекса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врата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мишићни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тонус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се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мења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у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зависности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од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промене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положаја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главе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и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врата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Такво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дете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у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седећем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положају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губи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равнотежу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и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пада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уназад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или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у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Dutch"/>
              </a:rPr>
              <a:t>страну</a:t>
            </a:r>
            <a:r>
              <a:rPr b="0" lang="en-GB" sz="2400" spc="-1" strike="noStrike">
                <a:solidFill>
                  <a:srgbClr val="000000"/>
                </a:solidFill>
                <a:latin typeface="Dutch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Поступак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РИП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YUDutch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Патолошке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активности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терапеут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инхибира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постављањем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ногу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у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абдукцију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спољну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ротациј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3049560" cy="4114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Дефиниција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ДЦО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Ц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и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болест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ећ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група</a:t>
            </a:r>
            <a:r>
              <a:rPr b="0" lang="sr-Latn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стања</a:t>
            </a:r>
            <a:r>
              <a:rPr b="0" lang="sr-Latn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азличитог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аријетет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езултат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штећењ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епавилног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азвој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озг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uter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оком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еринаталног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живот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(Bobat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Ц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непрогресивни</a:t>
            </a:r>
            <a:r>
              <a:rPr b="0" lang="sr-Latn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ремећај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озг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ој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аста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рем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гравидитет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рођај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еонаталном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ериод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оузроку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абнормалност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крет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тавов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(Rus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00"/>
              </a:solidFill>
              <a:latin typeface="YUDutchB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YUDutch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Терапеут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поставља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ноге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детета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у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спољну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ротацију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абдукцију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а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стопала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у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неутрални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положај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уз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постављање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целог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стопала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на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површину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B"/>
              </a:rPr>
              <a:t>ослонца</a:t>
            </a:r>
            <a:r>
              <a:rPr b="0" lang="en-GB" sz="2800" spc="-1" strike="noStrike">
                <a:solidFill>
                  <a:srgbClr val="ffffff"/>
                </a:solidFill>
                <a:latin typeface="YUDutchB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1012680" y="1641600"/>
            <a:ext cx="315612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YUDutchB"/>
              </a:rPr>
              <a:t>РИП</a:t>
            </a:r>
            <a:r>
              <a:rPr b="0" lang="en-GB" sz="4400" spc="-1" strike="noStrike">
                <a:solidFill>
                  <a:srgbClr val="ffff00"/>
                </a:solidFill>
                <a:latin typeface="YUDutchB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YUDutchB"/>
              </a:rPr>
              <a:t>за</a:t>
            </a:r>
            <a:r>
              <a:rPr b="0" lang="en-GB" sz="4400" spc="-1" strike="noStrike">
                <a:solidFill>
                  <a:srgbClr val="ffff00"/>
                </a:solidFill>
                <a:latin typeface="YUDutchB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YUDutchB"/>
              </a:rPr>
              <a:t>шак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YUDutch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Појачан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тонус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флексора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прстију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шаке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условљава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стегнуту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шаку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немогућност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отварања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шаке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685800" y="1963800"/>
            <a:ext cx="3809880" cy="3809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РИП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поступа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Терапеут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одвоји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палац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у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абдукцију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на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тај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начин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се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инхибира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флексиони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тонус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прсти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се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опружају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685800" y="181116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YUDutchI"/>
              </a:rPr>
              <a:t>Дете</a:t>
            </a:r>
            <a:r>
              <a:rPr b="0" lang="en-GB" sz="32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YUDutchI"/>
              </a:rPr>
              <a:t>је</a:t>
            </a:r>
            <a:r>
              <a:rPr b="0" lang="en-GB" sz="32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YUDutchI"/>
              </a:rPr>
              <a:t>постављено</a:t>
            </a:r>
            <a:r>
              <a:rPr b="0" lang="en-GB" sz="32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YUDutchI"/>
              </a:rPr>
              <a:t>на</a:t>
            </a:r>
            <a:r>
              <a:rPr b="0" lang="en-GB" sz="32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YUDutchI"/>
              </a:rPr>
              <a:t>трбух</a:t>
            </a:r>
            <a:r>
              <a:rPr b="0" lang="en-GB" sz="3200" spc="-1" strike="noStrike">
                <a:solidFill>
                  <a:srgbClr val="ffffff"/>
                </a:solidFill>
                <a:latin typeface="YUDutchI"/>
              </a:rPr>
              <a:t>. </a:t>
            </a:r>
            <a:r>
              <a:rPr b="0" lang="sr-CS" sz="3200" spc="-1" strike="noStrike">
                <a:solidFill>
                  <a:srgbClr val="ffffff"/>
                </a:solidFill>
                <a:latin typeface="YUDutchI"/>
              </a:rPr>
              <a:t>Ноге</a:t>
            </a:r>
            <a:r>
              <a:rPr b="0" lang="en-GB" sz="32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YUDutchI"/>
              </a:rPr>
              <a:t>су</a:t>
            </a:r>
            <a:r>
              <a:rPr b="0" lang="en-GB" sz="32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YUDutchI"/>
              </a:rPr>
              <a:t>екстендиране</a:t>
            </a:r>
            <a:r>
              <a:rPr b="0" lang="en-GB" sz="32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YUDutchI"/>
              </a:rPr>
              <a:t>и</a:t>
            </a:r>
            <a:r>
              <a:rPr b="0" lang="en-GB" sz="32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YUDutchI"/>
              </a:rPr>
              <a:t>абдуциране</a:t>
            </a:r>
            <a:r>
              <a:rPr b="0" lang="en-GB" sz="3200" spc="-1" strike="noStrike">
                <a:solidFill>
                  <a:srgbClr val="ffffff"/>
                </a:solidFill>
                <a:latin typeface="YUDutchI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YUDutchI"/>
              </a:rPr>
              <a:t>стопала</a:t>
            </a:r>
            <a:r>
              <a:rPr b="0" lang="en-GB" sz="32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YUDutchI"/>
              </a:rPr>
              <a:t>су</a:t>
            </a:r>
            <a:r>
              <a:rPr b="0" lang="en-GB" sz="32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YUDutchI"/>
              </a:rPr>
              <a:t>неутралној</a:t>
            </a:r>
            <a:r>
              <a:rPr b="0" lang="en-GB" sz="32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YUDutchI"/>
              </a:rPr>
              <a:t>плантарној</a:t>
            </a:r>
            <a:r>
              <a:rPr b="0" lang="en-GB" sz="32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YUDutchI"/>
              </a:rPr>
              <a:t>позицији</a:t>
            </a:r>
            <a:r>
              <a:rPr b="0" lang="en-GB" sz="3200" spc="-1" strike="noStrike">
                <a:solidFill>
                  <a:srgbClr val="ffffff"/>
                </a:solidFill>
                <a:latin typeface="YUDutchI"/>
              </a:rPr>
              <a:t>. </a:t>
            </a:r>
            <a:r>
              <a:rPr b="0" lang="sr-CS" sz="3200" spc="-1" strike="noStrike">
                <a:solidFill>
                  <a:srgbClr val="ffffff"/>
                </a:solidFill>
                <a:latin typeface="YUDutchI"/>
              </a:rPr>
              <a:t>Руке</a:t>
            </a:r>
            <a:r>
              <a:rPr b="0" lang="en-GB" sz="32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YUDutchI"/>
              </a:rPr>
              <a:t>су</a:t>
            </a:r>
            <a:r>
              <a:rPr b="0" lang="en-GB" sz="32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YUDutchI"/>
              </a:rPr>
              <a:t>испружене</a:t>
            </a:r>
            <a:r>
              <a:rPr b="0" lang="en-GB" sz="32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YUDutchI"/>
              </a:rPr>
              <a:t>напре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YUDutchB"/>
              </a:rPr>
              <a:t>Увежбавање</a:t>
            </a:r>
            <a:r>
              <a:rPr b="0" lang="en-GB" sz="4400" spc="-1" strike="noStrike">
                <a:solidFill>
                  <a:srgbClr val="ffff00"/>
                </a:solidFill>
                <a:latin typeface="YUDutchB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YUDutchB"/>
              </a:rPr>
              <a:t>лабиринтног</a:t>
            </a:r>
            <a:r>
              <a:rPr b="0" lang="en-GB" sz="4400" spc="-1" strike="noStrike">
                <a:solidFill>
                  <a:srgbClr val="ffff00"/>
                </a:solidFill>
                <a:latin typeface="YUDutchB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YUDutchB"/>
              </a:rPr>
              <a:t>исправљања</a:t>
            </a:r>
            <a:r>
              <a:rPr b="0" lang="en-GB" sz="4400" spc="-1" strike="noStrike">
                <a:solidFill>
                  <a:srgbClr val="ffff00"/>
                </a:solidFill>
                <a:latin typeface="YUDutchB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YUDutchB"/>
              </a:rPr>
              <a:t>главе</a:t>
            </a:r>
            <a:r>
              <a:rPr b="0" lang="en-GB" sz="4400" spc="-1" strike="noStrike">
                <a:solidFill>
                  <a:srgbClr val="ffff00"/>
                </a:solidFill>
                <a:latin typeface="YUDutchB"/>
              </a:rPr>
              <a:t> - </a:t>
            </a:r>
            <a:r>
              <a:rPr b="0" lang="sr-CS" sz="4400" spc="-1" strike="noStrike">
                <a:solidFill>
                  <a:srgbClr val="ffff00"/>
                </a:solidFill>
                <a:latin typeface="YUDutchB"/>
              </a:rPr>
              <a:t>екстензиј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Поступа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071600" y="928440"/>
            <a:ext cx="507204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а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)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Глава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детета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се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ухвати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за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браду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и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потиљачну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регију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и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окрене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у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једну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страну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.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На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тој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страни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долази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до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појачања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тонуса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екстензора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а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на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супротној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страни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до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смањења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тонуса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екстензора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б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)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Терапеут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након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измене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тоничних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реакција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и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уравнотежења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тонуса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фиксира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карлицу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и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пома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`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е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детету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да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се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исправи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напред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са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испру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`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еним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YUDutchI"/>
              </a:rPr>
              <a:t>рукама</a:t>
            </a:r>
            <a:r>
              <a:rPr b="0" lang="en-GB" sz="2400" spc="-1" strike="noStrike">
                <a:solidFill>
                  <a:srgbClr val="ffffff"/>
                </a:solidFill>
                <a:latin typeface="YUDutch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" name="Group 8"/>
          <p:cNvGrpSpPr/>
          <p:nvPr/>
        </p:nvGrpSpPr>
        <p:grpSpPr>
          <a:xfrm>
            <a:off x="214200" y="928800"/>
            <a:ext cx="3747960" cy="5500080"/>
            <a:chOff x="214200" y="928800"/>
            <a:chExt cx="3747960" cy="5500080"/>
          </a:xfrm>
        </p:grpSpPr>
        <p:pic>
          <p:nvPicPr>
            <p:cNvPr id="170" name="Picture 5" descr=""/>
            <p:cNvPicPr/>
            <p:nvPr/>
          </p:nvPicPr>
          <p:blipFill>
            <a:blip r:embed="rId1"/>
            <a:stretch/>
          </p:blipFill>
          <p:spPr>
            <a:xfrm>
              <a:off x="309960" y="928800"/>
              <a:ext cx="3556080" cy="171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6" descr=""/>
            <p:cNvPicPr/>
            <p:nvPr/>
          </p:nvPicPr>
          <p:blipFill>
            <a:blip r:embed="rId2"/>
            <a:stretch/>
          </p:blipFill>
          <p:spPr>
            <a:xfrm>
              <a:off x="309960" y="3002040"/>
              <a:ext cx="3652200" cy="162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7" descr=""/>
            <p:cNvPicPr/>
            <p:nvPr/>
          </p:nvPicPr>
          <p:blipFill>
            <a:blip r:embed="rId3"/>
            <a:stretch/>
          </p:blipFill>
          <p:spPr>
            <a:xfrm>
              <a:off x="214200" y="4945680"/>
              <a:ext cx="3747960" cy="1483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Поступа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Терапеут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је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иза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детета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.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Рукама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обухвата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надлактице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забацује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у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крајњу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екстензију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адукцију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обе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руке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уз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ротаторне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покрете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унутрашње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спољашње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ротације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981000" y="1641600"/>
            <a:ext cx="321804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Дете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седи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на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крилу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терапеута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или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на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столици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са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ногама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у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абдукцији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спољној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ротацији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.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Терапеут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повла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~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руке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детета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у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екстензију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аддукцију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спољну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ротацију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лагано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гура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дете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ка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YUDutchI"/>
              </a:rPr>
              <a:t>напред</a:t>
            </a:r>
            <a:r>
              <a:rPr b="0" lang="en-GB" sz="2800" spc="-1" strike="noStrike">
                <a:solidFill>
                  <a:srgbClr val="ffffff"/>
                </a:solidFill>
                <a:latin typeface="YUDutch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685800" y="181116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YUDutchB"/>
              </a:rPr>
              <a:t>Увежбавање</a:t>
            </a:r>
            <a:r>
              <a:rPr b="0" lang="en-GB" sz="3200" spc="-1" strike="noStrike">
                <a:solidFill>
                  <a:srgbClr val="ffff00"/>
                </a:solidFill>
                <a:latin typeface="YUDutchB"/>
              </a:rPr>
              <a:t> </a:t>
            </a:r>
            <a:r>
              <a:rPr b="0" lang="sr-CS" sz="3200" spc="-1" strike="noStrike">
                <a:solidFill>
                  <a:srgbClr val="ffff00"/>
                </a:solidFill>
                <a:latin typeface="YUDutchB"/>
              </a:rPr>
              <a:t>реакције</a:t>
            </a:r>
            <a:r>
              <a:rPr b="0" lang="en-GB" sz="3200" spc="-1" strike="noStrike">
                <a:solidFill>
                  <a:srgbClr val="ffff00"/>
                </a:solidFill>
                <a:latin typeface="YUDutchB"/>
              </a:rPr>
              <a:t> </a:t>
            </a:r>
            <a:r>
              <a:rPr b="0" lang="sr-CS" sz="3200" spc="-1" strike="noStrike">
                <a:solidFill>
                  <a:srgbClr val="ffff00"/>
                </a:solidFill>
                <a:latin typeface="YUDutchB"/>
              </a:rPr>
              <a:t>вратног</a:t>
            </a:r>
            <a:r>
              <a:rPr b="0" lang="en-GB" sz="3200" spc="-1" strike="noStrike">
                <a:solidFill>
                  <a:srgbClr val="ffff00"/>
                </a:solidFill>
                <a:latin typeface="YUDutchB"/>
              </a:rPr>
              <a:t> </a:t>
            </a:r>
            <a:r>
              <a:rPr b="0" lang="sr-CS" sz="3200" spc="-1" strike="noStrike">
                <a:solidFill>
                  <a:srgbClr val="ffff00"/>
                </a:solidFill>
                <a:latin typeface="YUDutchB"/>
              </a:rPr>
              <a:t>исправљања</a:t>
            </a:r>
            <a:r>
              <a:rPr b="0" lang="en-GB" sz="3200" spc="-1" strike="noStrike">
                <a:solidFill>
                  <a:srgbClr val="ffff00"/>
                </a:solidFill>
                <a:latin typeface="YUDutchB"/>
              </a:rPr>
              <a:t> </a:t>
            </a:r>
            <a:r>
              <a:rPr b="0" lang="sr-CS" sz="3200" spc="-1" strike="noStrike">
                <a:solidFill>
                  <a:srgbClr val="ffff00"/>
                </a:solidFill>
                <a:latin typeface="YUDutchB"/>
              </a:rPr>
              <a:t>из</a:t>
            </a:r>
            <a:r>
              <a:rPr b="0" lang="en-GB" sz="3200" spc="-1" strike="noStrike">
                <a:solidFill>
                  <a:srgbClr val="ffff00"/>
                </a:solidFill>
                <a:latin typeface="YUDutchB"/>
              </a:rPr>
              <a:t> </a:t>
            </a:r>
            <a:r>
              <a:rPr b="0" lang="sr-CS" sz="3200" spc="-1" strike="noStrike">
                <a:solidFill>
                  <a:srgbClr val="ffff00"/>
                </a:solidFill>
                <a:latin typeface="YUDutchB"/>
              </a:rPr>
              <a:t>положаја</a:t>
            </a:r>
            <a:r>
              <a:rPr b="0" lang="en-GB" sz="3200" spc="-1" strike="noStrike">
                <a:solidFill>
                  <a:srgbClr val="ffff00"/>
                </a:solidFill>
                <a:latin typeface="YUDutchB"/>
              </a:rPr>
              <a:t> </a:t>
            </a:r>
            <a:r>
              <a:rPr b="0" lang="sr-CS" sz="3200" spc="-1" strike="noStrike">
                <a:solidFill>
                  <a:srgbClr val="ffff00"/>
                </a:solidFill>
                <a:latin typeface="YUDutchB"/>
              </a:rPr>
              <a:t>супинације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80" name="Group 5"/>
          <p:cNvGrpSpPr/>
          <p:nvPr/>
        </p:nvGrpSpPr>
        <p:grpSpPr>
          <a:xfrm>
            <a:off x="285840" y="1357200"/>
            <a:ext cx="8429040" cy="4241160"/>
            <a:chOff x="285840" y="1357200"/>
            <a:chExt cx="8429040" cy="4241160"/>
          </a:xfrm>
        </p:grpSpPr>
        <p:pic>
          <p:nvPicPr>
            <p:cNvPr id="181" name="Picture 6" descr=""/>
            <p:cNvPicPr/>
            <p:nvPr/>
          </p:nvPicPr>
          <p:blipFill>
            <a:blip r:embed="rId1"/>
            <a:stretch/>
          </p:blipFill>
          <p:spPr>
            <a:xfrm>
              <a:off x="2949480" y="1357200"/>
              <a:ext cx="2747160" cy="17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7" descr=""/>
            <p:cNvPicPr/>
            <p:nvPr/>
          </p:nvPicPr>
          <p:blipFill>
            <a:blip r:embed="rId2"/>
            <a:stretch/>
          </p:blipFill>
          <p:spPr>
            <a:xfrm>
              <a:off x="285840" y="3781800"/>
              <a:ext cx="3329640" cy="181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8" descr=""/>
            <p:cNvPicPr/>
            <p:nvPr/>
          </p:nvPicPr>
          <p:blipFill>
            <a:blip r:embed="rId3"/>
            <a:stretch/>
          </p:blipFill>
          <p:spPr>
            <a:xfrm>
              <a:off x="5031000" y="3692520"/>
              <a:ext cx="3683880" cy="1900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Dutch"/>
              </a:rPr>
              <a:t>Увежбавање</a:t>
            </a:r>
            <a:r>
              <a:rPr b="0" lang="en-US" sz="32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0" lang="sr-CS" sz="3200" spc="-1" strike="noStrike">
                <a:solidFill>
                  <a:srgbClr val="ffff00"/>
                </a:solidFill>
                <a:latin typeface="Dutch"/>
              </a:rPr>
              <a:t>реакције</a:t>
            </a:r>
            <a:r>
              <a:rPr b="0" lang="en-US" sz="32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0" lang="sr-CS" sz="3200" spc="-1" strike="noStrike">
                <a:solidFill>
                  <a:srgbClr val="ffff00"/>
                </a:solidFill>
                <a:latin typeface="Dutch"/>
              </a:rPr>
              <a:t>исправљања</a:t>
            </a:r>
            <a:r>
              <a:rPr b="0" lang="en-US" sz="32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0" lang="sr-CS" sz="3200" spc="-1" strike="noStrike">
                <a:solidFill>
                  <a:srgbClr val="ffff00"/>
                </a:solidFill>
                <a:latin typeface="Dutch"/>
              </a:rPr>
              <a:t>тела</a:t>
            </a:r>
            <a:r>
              <a:rPr b="0" lang="en-US" sz="32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0" lang="sr-CS" sz="3200" spc="-1" strike="noStrike">
                <a:solidFill>
                  <a:srgbClr val="ffff00"/>
                </a:solidFill>
                <a:latin typeface="Dutch"/>
              </a:rPr>
              <a:t>преко</a:t>
            </a:r>
            <a:r>
              <a:rPr b="0" lang="en-US" sz="32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0" lang="sr-CS" sz="3200" spc="-1" strike="noStrike">
                <a:solidFill>
                  <a:srgbClr val="ffff00"/>
                </a:solidFill>
                <a:latin typeface="Dutch"/>
              </a:rPr>
              <a:t>окрета</a:t>
            </a:r>
            <a:r>
              <a:rPr b="0" lang="en-US" sz="32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0" lang="sr-CS" sz="3200" spc="-1" strike="noStrike">
                <a:solidFill>
                  <a:srgbClr val="ffff00"/>
                </a:solidFill>
                <a:latin typeface="Dutch"/>
              </a:rPr>
              <a:t>рамена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810240" cy="1371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"/>
          <p:cNvPicPr/>
          <p:nvPr/>
        </p:nvPicPr>
        <p:blipFill>
          <a:blip r:embed="rId2"/>
          <a:stretch/>
        </p:blipFill>
        <p:spPr>
          <a:xfrm>
            <a:off x="762120" y="3387600"/>
            <a:ext cx="3528720" cy="1413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3"/>
          <a:stretch/>
        </p:blipFill>
        <p:spPr>
          <a:xfrm>
            <a:off x="981000" y="4964040"/>
            <a:ext cx="3057480" cy="143676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7"/>
          <p:cNvGrpSpPr/>
          <p:nvPr/>
        </p:nvGrpSpPr>
        <p:grpSpPr>
          <a:xfrm>
            <a:off x="380880" y="2362320"/>
            <a:ext cx="8534520" cy="3047760"/>
            <a:chOff x="380880" y="2362320"/>
            <a:chExt cx="8534520" cy="3047760"/>
          </a:xfrm>
        </p:grpSpPr>
        <p:pic>
          <p:nvPicPr>
            <p:cNvPr id="190" name="Picture 3" descr=""/>
            <p:cNvPicPr/>
            <p:nvPr/>
          </p:nvPicPr>
          <p:blipFill>
            <a:blip r:embed="rId1"/>
            <a:stretch/>
          </p:blipFill>
          <p:spPr>
            <a:xfrm>
              <a:off x="380880" y="2362320"/>
              <a:ext cx="2133720" cy="30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4" descr=""/>
            <p:cNvPicPr/>
            <p:nvPr/>
          </p:nvPicPr>
          <p:blipFill>
            <a:blip r:embed="rId2"/>
            <a:stretch/>
          </p:blipFill>
          <p:spPr>
            <a:xfrm>
              <a:off x="2666880" y="2362320"/>
              <a:ext cx="1857600" cy="30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5" descr=""/>
            <p:cNvPicPr/>
            <p:nvPr/>
          </p:nvPicPr>
          <p:blipFill>
            <a:blip r:embed="rId3"/>
            <a:stretch/>
          </p:blipFill>
          <p:spPr>
            <a:xfrm>
              <a:off x="4648320" y="2362320"/>
              <a:ext cx="2057400" cy="30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6" descr=""/>
            <p:cNvPicPr/>
            <p:nvPr/>
          </p:nvPicPr>
          <p:blipFill>
            <a:blip r:embed="rId4"/>
            <a:stretch/>
          </p:blipFill>
          <p:spPr>
            <a:xfrm>
              <a:off x="6858000" y="2362320"/>
              <a:ext cx="2057400" cy="304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Дефиниција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ДЦО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Ц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линичк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тањ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астал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ејством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еког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физичког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нсулт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ЕТЕЖН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оторн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истем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озг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ој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азвој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езре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штећењ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рајн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стациониран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казуј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огресиј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еђутим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нвалидитет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ож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апредоват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адојичић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Dutch"/>
              </a:rPr>
              <a:t>Увежбавање</a:t>
            </a:r>
            <a:r>
              <a:rPr b="0" lang="en-US" sz="32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Dutch"/>
              </a:rPr>
              <a:t>реакције</a:t>
            </a:r>
            <a:r>
              <a:rPr b="0" lang="en-US" sz="32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Dutch"/>
              </a:rPr>
              <a:t>усправљања</a:t>
            </a:r>
            <a:r>
              <a:rPr b="0" lang="en-US" sz="3200" spc="-1" strike="noStrike">
                <a:solidFill>
                  <a:srgbClr val="000000"/>
                </a:solidFill>
                <a:latin typeface="Dutch"/>
              </a:rPr>
              <a:t> - </a:t>
            </a:r>
            <a:r>
              <a:rPr b="0" lang="sr-CS" sz="3200" spc="-1" strike="noStrike">
                <a:solidFill>
                  <a:srgbClr val="000000"/>
                </a:solidFill>
                <a:latin typeface="Dutch"/>
              </a:rPr>
              <a:t>прелаз</a:t>
            </a:r>
            <a:r>
              <a:rPr b="0" lang="en-US" sz="32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Dutch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Dutch"/>
              </a:rPr>
              <a:t>стојећи</a:t>
            </a:r>
            <a:r>
              <a:rPr b="0" lang="en-US" sz="32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Dutch"/>
              </a:rPr>
              <a:t>положај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2214360" cy="2323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"/>
          <p:cNvPicPr/>
          <p:nvPr/>
        </p:nvPicPr>
        <p:blipFill>
          <a:blip r:embed="rId2"/>
          <a:stretch/>
        </p:blipFill>
        <p:spPr>
          <a:xfrm>
            <a:off x="2500200" y="1643040"/>
            <a:ext cx="2086200" cy="3348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"/>
          <p:cNvPicPr/>
          <p:nvPr/>
        </p:nvPicPr>
        <p:blipFill>
          <a:blip r:embed="rId3"/>
          <a:stretch/>
        </p:blipFill>
        <p:spPr>
          <a:xfrm>
            <a:off x="4724280" y="1643040"/>
            <a:ext cx="2017800" cy="3357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4"/>
          <a:stretch/>
        </p:blipFill>
        <p:spPr>
          <a:xfrm>
            <a:off x="6858000" y="1643040"/>
            <a:ext cx="21430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Dutch"/>
              </a:rPr>
              <a:t>Увежбавање</a:t>
            </a:r>
            <a:r>
              <a:rPr b="0" lang="en-US" sz="32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0" lang="sr-CS" sz="3200" spc="-1" strike="noStrike">
                <a:solidFill>
                  <a:srgbClr val="ffff00"/>
                </a:solidFill>
                <a:latin typeface="Dutch"/>
              </a:rPr>
              <a:t>заштитне</a:t>
            </a:r>
            <a:r>
              <a:rPr b="0" lang="en-US" sz="32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0" lang="sr-CS" sz="3200" spc="-1" strike="noStrike">
                <a:solidFill>
                  <a:srgbClr val="ffff00"/>
                </a:solidFill>
                <a:latin typeface="Dutch"/>
              </a:rPr>
              <a:t>реакције</a:t>
            </a:r>
            <a:r>
              <a:rPr b="0" lang="en-US" sz="32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0" lang="sr-Latn-CS" sz="3200" spc="-1" strike="noStrike">
                <a:solidFill>
                  <a:srgbClr val="ffff00"/>
                </a:solidFill>
                <a:latin typeface="Dutch"/>
              </a:rPr>
              <a:t>-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0" lang="sr-CS" sz="3200" spc="-1" strike="noStrike">
                <a:solidFill>
                  <a:srgbClr val="ffff00"/>
                </a:solidFill>
                <a:latin typeface="Dutch"/>
              </a:rPr>
              <a:t>одупирање</a:t>
            </a:r>
            <a:r>
              <a:rPr b="0" lang="en-US" sz="32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0" lang="sr-CS" sz="3200" spc="-1" strike="noStrike">
                <a:solidFill>
                  <a:srgbClr val="ffff00"/>
                </a:solidFill>
                <a:latin typeface="Dutch"/>
              </a:rPr>
              <a:t>на</a:t>
            </a:r>
            <a:r>
              <a:rPr b="0" lang="en-US" sz="32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0" lang="sr-CS" sz="3200" spc="-1" strike="noStrike">
                <a:solidFill>
                  <a:srgbClr val="ffff00"/>
                </a:solidFill>
                <a:latin typeface="Dutch"/>
              </a:rPr>
              <a:t>руке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2209680" cy="1969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"/>
          <p:cNvPicPr/>
          <p:nvPr/>
        </p:nvPicPr>
        <p:blipFill>
          <a:blip r:embed="rId2"/>
          <a:stretch/>
        </p:blipFill>
        <p:spPr>
          <a:xfrm>
            <a:off x="3276720" y="1828800"/>
            <a:ext cx="2238120" cy="1962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"/>
          <p:cNvPicPr/>
          <p:nvPr/>
        </p:nvPicPr>
        <p:blipFill>
          <a:blip r:embed="rId3"/>
          <a:stretch/>
        </p:blipFill>
        <p:spPr>
          <a:xfrm>
            <a:off x="5867280" y="1828800"/>
            <a:ext cx="2857680" cy="1781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"/>
          <p:cNvPicPr/>
          <p:nvPr/>
        </p:nvPicPr>
        <p:blipFill>
          <a:blip r:embed="rId4"/>
          <a:stretch/>
        </p:blipFill>
        <p:spPr>
          <a:xfrm>
            <a:off x="609480" y="4048200"/>
            <a:ext cx="1247760" cy="2504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5"/>
          <a:stretch/>
        </p:blipFill>
        <p:spPr>
          <a:xfrm>
            <a:off x="1981080" y="4038480"/>
            <a:ext cx="1828800" cy="1704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"/>
          <p:cNvPicPr/>
          <p:nvPr/>
        </p:nvPicPr>
        <p:blipFill>
          <a:blip r:embed="rId6"/>
          <a:stretch/>
        </p:blipFill>
        <p:spPr>
          <a:xfrm>
            <a:off x="4038480" y="4038480"/>
            <a:ext cx="2381400" cy="13622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"/>
          <p:cNvPicPr/>
          <p:nvPr/>
        </p:nvPicPr>
        <p:blipFill>
          <a:blip r:embed="rId7"/>
          <a:stretch/>
        </p:blipFill>
        <p:spPr>
          <a:xfrm>
            <a:off x="6629400" y="3962520"/>
            <a:ext cx="1397160" cy="14475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"/>
          <p:cNvPicPr/>
          <p:nvPr/>
        </p:nvPicPr>
        <p:blipFill>
          <a:blip r:embed="rId8"/>
          <a:stretch/>
        </p:blipFill>
        <p:spPr>
          <a:xfrm>
            <a:off x="6629400" y="5479920"/>
            <a:ext cx="1371600" cy="13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Dutch"/>
              </a:rPr>
              <a:t>Реакција</a:t>
            </a:r>
            <a:r>
              <a:rPr b="1" lang="en-US" sz="28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Dutch"/>
              </a:rPr>
              <a:t>одупирања</a:t>
            </a:r>
            <a:r>
              <a:rPr b="1" lang="en-US" sz="28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Dutch"/>
              </a:rPr>
              <a:t>на</a:t>
            </a:r>
            <a:r>
              <a:rPr b="1" lang="en-US" sz="28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Dutch"/>
              </a:rPr>
              <a:t>руке</a:t>
            </a:r>
            <a:r>
              <a:rPr b="1" lang="en-US" sz="28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Dutch"/>
              </a:rPr>
              <a:t>у</a:t>
            </a:r>
            <a:r>
              <a:rPr b="1" lang="en-US" sz="28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Dutch"/>
              </a:rPr>
              <a:t>стојећем</a:t>
            </a:r>
            <a:r>
              <a:rPr b="1" lang="en-US" sz="28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Dutch"/>
              </a:rPr>
              <a:t>положају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990720" y="1641600"/>
            <a:ext cx="3047760" cy="44542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Дете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стоји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поред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зид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.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Терапеут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је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из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или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поред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детет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обухват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руку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с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ипсилатералне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стране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преко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надлактице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или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лакт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.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У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даљем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току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терапеут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доводи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руку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детет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у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абдукцију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спољну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ротацију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затим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гур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дете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прем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зиду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д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би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дошло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до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одупирањ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н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руку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Dutch"/>
              </a:rPr>
              <a:t>Увежбавање</a:t>
            </a:r>
            <a:r>
              <a:rPr b="0" lang="en-US" sz="36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0" lang="sr-CS" sz="3600" spc="-1" strike="noStrike">
                <a:solidFill>
                  <a:srgbClr val="ffff00"/>
                </a:solidFill>
                <a:latin typeface="Dutch"/>
              </a:rPr>
              <a:t>реакција</a:t>
            </a:r>
            <a:r>
              <a:rPr b="0" lang="en-US" sz="36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0" lang="sr-CS" sz="3600" spc="-1" strike="noStrike">
                <a:solidFill>
                  <a:srgbClr val="ffff00"/>
                </a:solidFill>
                <a:latin typeface="Dutch"/>
              </a:rPr>
              <a:t>равнотеже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500040" y="928800"/>
            <a:ext cx="2900520" cy="284004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ет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стављ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кретн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длог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роз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мерањ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длог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зазивај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еакциј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ој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овод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спостављањ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авнотеж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ет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лаз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епокретној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длоз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гурањем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етет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азним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равцим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зазивај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еуромускуларн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одговор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ој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овод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спостављањ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авнотеж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2"/>
          <a:stretch/>
        </p:blipFill>
        <p:spPr>
          <a:xfrm>
            <a:off x="1143000" y="3971880"/>
            <a:ext cx="277164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Dutch"/>
              </a:rPr>
              <a:t>Увежбавање</a:t>
            </a:r>
            <a:r>
              <a:rPr b="0" lang="en-US" sz="36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0" lang="sr-CS" sz="3600" spc="-1" strike="noStrike">
                <a:solidFill>
                  <a:srgbClr val="ffff00"/>
                </a:solidFill>
                <a:latin typeface="Dutch"/>
              </a:rPr>
              <a:t>равнотеже</a:t>
            </a:r>
            <a:r>
              <a:rPr b="0" lang="en-US" sz="36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0" lang="sr-CS" sz="3600" spc="-1" strike="noStrike">
                <a:solidFill>
                  <a:srgbClr val="ffff00"/>
                </a:solidFill>
                <a:latin typeface="Dutch"/>
              </a:rPr>
              <a:t>у</a:t>
            </a:r>
            <a:r>
              <a:rPr b="0" lang="en-US" sz="36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0" lang="sr-CS" sz="3600" spc="-1" strike="noStrike">
                <a:solidFill>
                  <a:srgbClr val="ffff00"/>
                </a:solidFill>
                <a:latin typeface="Dutch"/>
              </a:rPr>
              <a:t>супинираном</a:t>
            </a:r>
            <a:r>
              <a:rPr b="0" lang="en-US" sz="36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0" lang="sr-CS" sz="3600" spc="-1" strike="noStrike">
                <a:solidFill>
                  <a:srgbClr val="ffff00"/>
                </a:solidFill>
                <a:latin typeface="Dutch"/>
              </a:rPr>
              <a:t>положају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2116080" cy="24732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Дете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лежи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н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покретној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дасци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у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ледјном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положају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терапеут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лагано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нагиње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даску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н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једну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п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н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другу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страну.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Н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тај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начин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условљав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успостављање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равнотеже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хармонизације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покрет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2"/>
          <a:stretch/>
        </p:blipFill>
        <p:spPr>
          <a:xfrm>
            <a:off x="762120" y="4686480"/>
            <a:ext cx="274320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Dutch"/>
              </a:rPr>
              <a:t>Увежбавање равнотеже у седећем положају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48320" y="1641600"/>
            <a:ext cx="4495680" cy="521640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Дете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седи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столици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Терапеут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хвата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дете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рамена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гура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га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свим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правцима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Дете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седи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столици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Терапеут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поди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`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е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једну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ногу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преко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хвата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подколенице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затим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руку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ипсилатералне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стране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Повлачећи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дете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страну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долази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успостваљања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равнотеже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Дете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седи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покретној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дасци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лопти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Тераепут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нагиње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даску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помера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лопту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Дете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седи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поду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Терапеут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испред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детета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Хватом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обе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подколенице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терапеут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гура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ноге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ка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напред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ка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назад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лево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Dutch"/>
              </a:rPr>
              <a:t>десно</a:t>
            </a:r>
            <a:r>
              <a:rPr b="0" lang="en-US" sz="2000" spc="-1" strike="noStrike">
                <a:solidFill>
                  <a:srgbClr val="000000"/>
                </a:solidFill>
                <a:latin typeface="Dutch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66600" y="1600200"/>
            <a:ext cx="2219400" cy="2724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2"/>
          <a:stretch/>
        </p:blipFill>
        <p:spPr>
          <a:xfrm>
            <a:off x="2362320" y="1600200"/>
            <a:ext cx="2219040" cy="2724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"/>
          <p:cNvPicPr/>
          <p:nvPr/>
        </p:nvPicPr>
        <p:blipFill>
          <a:blip r:embed="rId3"/>
          <a:stretch/>
        </p:blipFill>
        <p:spPr>
          <a:xfrm>
            <a:off x="57240" y="4448160"/>
            <a:ext cx="2228760" cy="2333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"/>
          <p:cNvPicPr/>
          <p:nvPr/>
        </p:nvPicPr>
        <p:blipFill>
          <a:blip r:embed="rId4"/>
          <a:stretch/>
        </p:blipFill>
        <p:spPr>
          <a:xfrm>
            <a:off x="2362320" y="4419720"/>
            <a:ext cx="220968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Dutch"/>
              </a:rPr>
              <a:t>Увежбавање</a:t>
            </a:r>
            <a:r>
              <a:rPr b="1" lang="en-US" sz="36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Dutch"/>
              </a:rPr>
              <a:t>равнотеже</a:t>
            </a:r>
            <a:r>
              <a:rPr b="1" lang="en-US" sz="36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Dutch"/>
              </a:rPr>
              <a:t>у</a:t>
            </a:r>
            <a:r>
              <a:rPr b="1" lang="en-US" sz="3600" spc="-1" strike="noStrike">
                <a:solidFill>
                  <a:srgbClr val="ffff00"/>
                </a:solidFill>
                <a:latin typeface="Dutch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_New_Roman"/>
              </a:rPr>
              <a:t>четвороножном</a:t>
            </a:r>
            <a:r>
              <a:rPr b="1" lang="sr-Latn-CS" sz="3600" spc="-1" strike="noStrike">
                <a:solidFill>
                  <a:srgbClr val="ffff00"/>
                </a:solidFill>
                <a:latin typeface="Times_New_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_New_Roman"/>
              </a:rPr>
              <a:t>полож</a:t>
            </a:r>
            <a:r>
              <a:rPr b="1" lang="sr-CS" sz="3600" spc="-1" strike="noStrike">
                <a:solidFill>
                  <a:srgbClr val="ffff00"/>
                </a:solidFill>
                <a:latin typeface="Dutch"/>
              </a:rPr>
              <a:t>ају</a:t>
            </a:r>
            <a:r>
              <a:rPr b="1" lang="en-US" sz="3600" spc="-1" strike="noStrike">
                <a:solidFill>
                  <a:srgbClr val="ffff00"/>
                </a:solidFill>
                <a:latin typeface="Dutch"/>
              </a:rPr>
              <a:t>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48320" y="1641240"/>
            <a:ext cx="41148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Дете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се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налази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у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четвороножном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положају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.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Терапеут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гур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дете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у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страну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напред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или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назад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.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Хватови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су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преко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рамена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или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Dutch"/>
              </a:rPr>
              <a:t>карлице</a:t>
            </a:r>
            <a:r>
              <a:rPr b="0" lang="en-US" sz="2400" spc="-1" strike="noStrike">
                <a:solidFill>
                  <a:srgbClr val="ffffff"/>
                </a:solidFill>
                <a:latin typeface="Dutch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1"/>
          <a:stretch/>
        </p:blipFill>
        <p:spPr>
          <a:xfrm>
            <a:off x="609480" y="1214280"/>
            <a:ext cx="3462480" cy="2548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"/>
          <p:cNvPicPr/>
          <p:nvPr/>
        </p:nvPicPr>
        <p:blipFill>
          <a:blip r:embed="rId2"/>
          <a:stretch/>
        </p:blipFill>
        <p:spPr>
          <a:xfrm>
            <a:off x="857160" y="3929040"/>
            <a:ext cx="382428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Times_New_Roman"/>
              </a:rPr>
              <a:t>Увежбавање</a:t>
            </a:r>
            <a:r>
              <a:rPr b="1" lang="en-US" sz="3600" spc="-1" strike="noStrike">
                <a:solidFill>
                  <a:srgbClr val="ffff00"/>
                </a:solidFill>
                <a:latin typeface="Times_New_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_New_Roman"/>
              </a:rPr>
              <a:t>равнотеже</a:t>
            </a:r>
            <a:r>
              <a:rPr b="1" lang="en-US" sz="3600" spc="-1" strike="noStrike">
                <a:solidFill>
                  <a:srgbClr val="ffff00"/>
                </a:solidFill>
                <a:latin typeface="Times_New_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_New_Roman"/>
              </a:rPr>
              <a:t>у</a:t>
            </a:r>
            <a:r>
              <a:rPr b="1" lang="sr-Latn-CS" sz="3600" spc="-1" strike="noStrike">
                <a:solidFill>
                  <a:srgbClr val="ffff00"/>
                </a:solidFill>
                <a:latin typeface="Times_New_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_New_Roman"/>
              </a:rPr>
              <a:t>четрвороножном</a:t>
            </a:r>
            <a:r>
              <a:rPr b="1" lang="sr-Latn-CS" sz="3600" spc="-1" strike="noStrike">
                <a:solidFill>
                  <a:srgbClr val="ffff00"/>
                </a:solidFill>
                <a:latin typeface="Times_New_Roman"/>
              </a:rPr>
              <a:t> </a:t>
            </a:r>
            <a:r>
              <a:rPr b="1" lang="sr-CS" sz="3600" spc="-1" strike="noStrike">
                <a:solidFill>
                  <a:srgbClr val="ffff00"/>
                </a:solidFill>
                <a:latin typeface="Times_New_Roman"/>
              </a:rPr>
              <a:t>положају</a:t>
            </a:r>
            <a:r>
              <a:rPr b="1" lang="en-US" sz="3600" spc="-1" strike="noStrike">
                <a:solidFill>
                  <a:srgbClr val="ffff00"/>
                </a:solidFill>
                <a:latin typeface="Times_New_Roman"/>
              </a:rPr>
              <a:t>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YUDutchI"/>
              </a:rPr>
              <a:t>Терапеут</a:t>
            </a:r>
            <a:r>
              <a:rPr b="1" lang="en-US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YUDutchI"/>
              </a:rPr>
              <a:t>подиже</a:t>
            </a:r>
            <a:r>
              <a:rPr b="1" lang="en-US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YUDutchI"/>
              </a:rPr>
              <a:t>наизменично</a:t>
            </a:r>
            <a:r>
              <a:rPr b="1" lang="en-US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YUDutchI"/>
              </a:rPr>
              <a:t>руку</a:t>
            </a:r>
            <a:r>
              <a:rPr b="1" lang="en-US" sz="2800" spc="-1" strike="noStrike">
                <a:solidFill>
                  <a:srgbClr val="ffffff"/>
                </a:solidFill>
                <a:latin typeface="YUDutchI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YUDutchI"/>
              </a:rPr>
              <a:t>па</a:t>
            </a:r>
            <a:r>
              <a:rPr b="1" lang="en-US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YUDutchI"/>
              </a:rPr>
              <a:t>супротну</a:t>
            </a:r>
            <a:r>
              <a:rPr b="1" lang="en-US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YUDutchI"/>
              </a:rPr>
              <a:t>ногу</a:t>
            </a:r>
            <a:r>
              <a:rPr b="1" lang="en-US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YUDutchI"/>
              </a:rPr>
              <a:t>како</a:t>
            </a:r>
            <a:r>
              <a:rPr b="1" lang="en-US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YUDutchI"/>
              </a:rPr>
              <a:t>би</a:t>
            </a:r>
            <a:r>
              <a:rPr b="1" lang="en-US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YUDutchI"/>
              </a:rPr>
              <a:t>се</a:t>
            </a:r>
            <a:r>
              <a:rPr b="1" lang="en-US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YUDutchI"/>
              </a:rPr>
              <a:t>површина</a:t>
            </a:r>
            <a:r>
              <a:rPr b="1" lang="en-US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YUDutchI"/>
              </a:rPr>
              <a:t>ослонца</a:t>
            </a:r>
            <a:r>
              <a:rPr b="1" lang="en-US" sz="2800" spc="-1" strike="noStrike">
                <a:solidFill>
                  <a:srgbClr val="ffffff"/>
                </a:solidFill>
                <a:latin typeface="YUDutchI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YUDutchI"/>
              </a:rPr>
              <a:t>смањила</a:t>
            </a:r>
            <a:r>
              <a:rPr b="1" lang="en-US" sz="2800" spc="-1" strike="noStrike">
                <a:solidFill>
                  <a:srgbClr val="ffffff"/>
                </a:solidFill>
                <a:latin typeface="YUDutch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Picture 5" descr=""/>
          <p:cNvPicPr/>
          <p:nvPr/>
        </p:nvPicPr>
        <p:blipFill>
          <a:blip r:embed="rId1"/>
          <a:stretch/>
        </p:blipFill>
        <p:spPr>
          <a:xfrm>
            <a:off x="152280" y="1428840"/>
            <a:ext cx="1847880" cy="1971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"/>
          <p:cNvPicPr/>
          <p:nvPr/>
        </p:nvPicPr>
        <p:blipFill>
          <a:blip r:embed="rId2"/>
          <a:stretch/>
        </p:blipFill>
        <p:spPr>
          <a:xfrm>
            <a:off x="2133720" y="1428840"/>
            <a:ext cx="2247840" cy="20192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"/>
          <p:cNvPicPr/>
          <p:nvPr/>
        </p:nvPicPr>
        <p:blipFill>
          <a:blip r:embed="rId3"/>
          <a:stretch/>
        </p:blipFill>
        <p:spPr>
          <a:xfrm>
            <a:off x="857160" y="4000680"/>
            <a:ext cx="3672000" cy="26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Увежбавање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равнотеже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у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стојећем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став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36" name="Group 9"/>
          <p:cNvGrpSpPr/>
          <p:nvPr/>
        </p:nvGrpSpPr>
        <p:grpSpPr>
          <a:xfrm>
            <a:off x="304920" y="2743200"/>
            <a:ext cx="8762760" cy="2438280"/>
            <a:chOff x="304920" y="2743200"/>
            <a:chExt cx="8762760" cy="2438280"/>
          </a:xfrm>
        </p:grpSpPr>
        <p:pic>
          <p:nvPicPr>
            <p:cNvPr id="237" name="Picture 3" descr=""/>
            <p:cNvPicPr/>
            <p:nvPr/>
          </p:nvPicPr>
          <p:blipFill>
            <a:blip r:embed="rId1"/>
            <a:stretch/>
          </p:blipFill>
          <p:spPr>
            <a:xfrm>
              <a:off x="304920" y="2743200"/>
              <a:ext cx="134280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4" descr=""/>
            <p:cNvPicPr/>
            <p:nvPr/>
          </p:nvPicPr>
          <p:blipFill>
            <a:blip r:embed="rId2"/>
            <a:stretch/>
          </p:blipFill>
          <p:spPr>
            <a:xfrm>
              <a:off x="1752480" y="2743200"/>
              <a:ext cx="1333800" cy="24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5" descr=""/>
            <p:cNvPicPr/>
            <p:nvPr/>
          </p:nvPicPr>
          <p:blipFill>
            <a:blip r:embed="rId3"/>
            <a:stretch/>
          </p:blipFill>
          <p:spPr>
            <a:xfrm>
              <a:off x="3200400" y="2743200"/>
              <a:ext cx="1467000" cy="23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6" descr=""/>
            <p:cNvPicPr/>
            <p:nvPr/>
          </p:nvPicPr>
          <p:blipFill>
            <a:blip r:embed="rId4"/>
            <a:stretch/>
          </p:blipFill>
          <p:spPr>
            <a:xfrm>
              <a:off x="4800600" y="2743200"/>
              <a:ext cx="1357200" cy="23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7" descr=""/>
            <p:cNvPicPr/>
            <p:nvPr/>
          </p:nvPicPr>
          <p:blipFill>
            <a:blip r:embed="rId5"/>
            <a:stretch/>
          </p:blipFill>
          <p:spPr>
            <a:xfrm>
              <a:off x="6248520" y="2743200"/>
              <a:ext cx="1350720" cy="23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8" descr=""/>
            <p:cNvPicPr/>
            <p:nvPr/>
          </p:nvPicPr>
          <p:blipFill>
            <a:blip r:embed="rId6"/>
            <a:stretch/>
          </p:blipFill>
          <p:spPr>
            <a:xfrm>
              <a:off x="7781760" y="2743200"/>
              <a:ext cx="1285920" cy="2361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тиологија 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DCO-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пренатални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фактори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нфективна обољења мајке у трудноћи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(toksoplazmoza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rubeola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treptokok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аум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e (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рвареља из постељиц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e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нтоксикац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je (eklampsija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ремећај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KVS (anemija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lacenta previa, Ab imminens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онгениталне аномалије плод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(mikrocephalia, pachigyria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Етиологија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ДЦО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натални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фактори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рематурус</a:t>
            </a:r>
            <a:r>
              <a:rPr b="0" lang="sr-Latn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езрел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јетр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ерад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билирубин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орођајна</a:t>
            </a:r>
            <a:r>
              <a:rPr b="0" lang="sr-Latn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асфиксиј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Rh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AB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нкопатибилиј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perbilirubinemio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(&gt;20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г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билирубин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Брз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рођај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агл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омен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итиск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рођајн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рау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00"/>
                </a:solidFill>
                <a:latin typeface="Times New Roman"/>
              </a:rPr>
              <a:t>Етологија</a:t>
            </a:r>
            <a:r>
              <a:rPr b="0" lang="sr-Latn-C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000" spc="-1" strike="noStrike">
                <a:solidFill>
                  <a:srgbClr val="ffff00"/>
                </a:solidFill>
                <a:latin typeface="Times New Roman"/>
              </a:rPr>
              <a:t>ДЦО</a:t>
            </a:r>
            <a:r>
              <a:rPr b="0" lang="sr-Latn-CS" sz="40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0" lang="sr-CS" sz="4000" spc="-1" strike="noStrike">
                <a:solidFill>
                  <a:srgbClr val="ffff00"/>
                </a:solidFill>
                <a:latin typeface="Times New Roman"/>
              </a:rPr>
              <a:t>постнатални</a:t>
            </a:r>
            <a:r>
              <a:rPr b="0" lang="sr-Latn-C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000" spc="-1" strike="noStrike">
                <a:solidFill>
                  <a:srgbClr val="ffff00"/>
                </a:solidFill>
                <a:latin typeface="Times New Roman"/>
              </a:rPr>
              <a:t>фактори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Mening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Encefal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onvulzi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Класификација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ДЦО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неуромоторн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днос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линичк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лик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пастицитет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атетоз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ригидитет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атаксиј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ремор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ешовите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днос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онус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хипертоничн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хипотоничн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форм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однос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локализациј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лези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ирамидн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пастичн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екстрапирамидн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искинетичн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Класификација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ДЦО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0" lang="sr-CS" sz="4400" spc="-1" strike="noStrike">
                <a:solidFill>
                  <a:srgbClr val="ffff00"/>
                </a:solidFill>
                <a:latin typeface="Times New Roman"/>
              </a:rPr>
              <a:t>топографск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араплегиј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арапаре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Хемиплегиј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хемипаре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риплегиј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рипаре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вадриплегиј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вадрипаре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8:32:48Z</dcterms:created>
  <dc:creator>WIN98SE</dc:creator>
  <dc:description/>
  <dc:language>en-US</dc:language>
  <cp:lastModifiedBy>Info</cp:lastModifiedBy>
  <dcterms:modified xsi:type="dcterms:W3CDTF">2014-03-24T09:30:55Z</dcterms:modified>
  <cp:revision>36</cp:revision>
  <dc:subject/>
  <dc:title>BOBATH tehnika</dc:title>
</cp:coreProperties>
</file>